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AAA1-9164-46A7-84D7-484830F5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AC64-AAB5-4517-BF41-652707FB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E86C-FAEE-4C71-99A8-65755D7F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20C1-9295-45DB-B7E4-3BAD7380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9727-C5A2-4A5F-AC06-A4D35529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35BA-9B16-47A7-B009-A87913B0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C985-022C-4834-80C8-FCFA0CC4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4319-AA33-4C78-8A6A-05ABDF51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DB38-F405-46EC-B428-700D92CC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8A12-0278-4EF3-8642-0BA28B80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D61E-41A9-4752-8898-E977474E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B58C-C5AB-4F65-B8C6-B9B54D76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1C61-7E4B-49EA-B5CD-AD31CA5E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173D-BBEF-4029-BE37-C48BBAED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175D-8839-4650-BFC8-90AB60E5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9CAB-DE46-4400-8856-BB4BF1E4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91B5-C985-488B-A71A-78E4745E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3522-59BF-493D-B3CD-2B1C08D8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EDAB-EA9F-485F-BE6E-6D0C0585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23BA-7AF8-4B7F-8CDC-893B6A2E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81C3-5F5A-4833-BBDD-0D92DCCF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3D76-C8E1-4B86-9AB4-F80B9097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A8C5-AA40-457D-9B76-3C288422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0E21-5BA5-44FC-8B02-36DA3B02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8ACB-8649-4970-BB27-BF7058CA56A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57D6-23EB-447F-93AC-ADD321E233E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cade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7315200" y="52578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315200" y="53341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20444400">
            <a:off x="6751440" y="4622040"/>
            <a:ext cx="1900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-27-1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er:1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143000" y="838080"/>
            <a:ext cx="62485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Gatorade</a:t>
            </a:r>
            <a:endParaRPr b="1" lang="en-US" sz="4400" spc="1" strike="noStrike">
              <a:ln w="12600">
                <a:solidFill>
                  <a:srgbClr val="ff00ff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5638680"/>
            <a:ext cx="3962520" cy="19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Sound: Free Play Music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Comic Sans MS"/>
              </a:rPr>
              <a:t>music,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May 7,2010, 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99"/>
                </a:solidFill>
                <a:uFillTx/>
                <a:latin typeface="Comic Sans MS"/>
                <a:hlinkClick r:id="rId1"/>
              </a:rPr>
              <a:t>www.freeplaymusic.com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34340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Cade"/>
          <p:cNvPicPr/>
          <p:nvPr/>
        </p:nvPicPr>
        <p:blipFill>
          <a:blip r:embed="rId1"/>
          <a:srcRect l="0" t="0" r="57785" b="-49983"/>
          <a:stretch/>
        </p:blipFill>
        <p:spPr>
          <a:xfrm rot="20260800">
            <a:off x="2209320" y="1295280"/>
            <a:ext cx="2210040" cy="36734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762120" y="5715000"/>
            <a:ext cx="5790960" cy="12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Lemelsons MIT Program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Comic Sans MS"/>
              </a:rPr>
              <a:t>Robert Cade,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May 10,201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99"/>
                </a:solidFill>
                <a:uFillTx/>
                <a:latin typeface="Comic Sans MS"/>
                <a:hlinkClick r:id="rId2"/>
              </a:rPr>
              <a:t>http://web.mit.edu/invent/iow/cade.htm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133720" y="41148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This is a picture of the Banner they used because of what Robert made for the team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auhaus 93"/>
              </a:rPr>
              <a:t>Invention: Gatorade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Forte"/>
              </a:rPr>
              <a:t>A coach asked Robert to find a drink to keep the team focus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Forte"/>
              </a:rPr>
              <a:t>Named the drink Gatorade after The Gators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Forte"/>
              </a:rPr>
              <a:t>He made adjustments to it so it can not be turned down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Forte"/>
              </a:rPr>
              <a:t>Billions of dollars are made for selling this drink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Forte"/>
              </a:rPr>
              <a:t>There are more then 15 kinds of Gatorad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heel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Bauhaus 93"/>
              </a:rPr>
              <a:t>Inventor: Robert Cade</a:t>
            </a:r>
            <a:endParaRPr b="0" lang="en-US" sz="5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Forte"/>
              </a:rPr>
              <a:t>Robert was born on 1927 in Florida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Forte"/>
              </a:rPr>
              <a:t>He was trained in the University of Texas Medical School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Forte"/>
              </a:rPr>
              <a:t>He was a internist and nephrologists in Texa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Forte"/>
              </a:rPr>
              <a:t>Robert was a medical researcher in The University of Florida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Forte"/>
              </a:rPr>
              <a:t>In 1973 he went back to Florida (University) and was a professor of medicin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heel spokes="8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3:22:21Z</dcterms:created>
  <dc:creator>install</dc:creator>
  <dc:description/>
  <dc:language>en-US</dc:language>
  <cp:lastModifiedBy>install</cp:lastModifiedBy>
  <dcterms:modified xsi:type="dcterms:W3CDTF">2010-05-12T13:15:10Z</dcterms:modified>
  <cp:revision>10</cp:revision>
  <dc:subject/>
  <dc:title>Slide 1</dc:title>
</cp:coreProperties>
</file>